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7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4456-FF9D-4A52-A807-54F9199F8F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B9C7-3E5D-43CE-8192-CA0737FB35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3F69-9E40-4380-B3BB-39219C557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85F0-5A42-43A9-B766-B1F20F12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B8F2-6389-43DE-B8BB-ECB356B0F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2C80-A7FF-4868-887C-AA2AB2564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AC1D-FD27-4266-81C3-A4D1E8DD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E58C-6DDD-4B02-AEAE-189C10A8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A826B-3260-4244-BC2D-CA112366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3789-D21F-46A9-8482-B305398E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A3D9-DF47-48ED-82BC-81A3732E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7AC7-77F4-41D6-8F61-CB75334A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A011-C047-409B-B15C-22C361C0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003F-0B64-42BB-B82E-EAF903DE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C2D7-373E-47A8-8DD0-3B43ADF7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4B80-4F3B-43EC-A076-975ED0AF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4CCF-7EAE-49F3-8197-28241D7D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91CD-476D-4324-99E1-7BABB266B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218A-03D1-4FFE-A512-C03017BFA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B279E-0750-4AA6-A385-F8ACFD61A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6A8D7-2A0F-4BD8-ACBB-6293A038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6B997-EC1D-4E3A-91D4-7ECA7027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3EE82-7219-40D3-9573-EFE3087E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CE4E3-7B19-4F2D-9804-C2683688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C356-D0FE-40A5-91CD-F34F25E7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D3772-5BC2-4B98-BDD9-A4E8F347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B4C35-3DB8-438B-B7FD-B8E8AEFB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7FC09-57DA-41E5-9D57-A40D0B20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2B618-2633-4BF2-A55B-8708DD83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3D555-029F-47F2-90E5-B8B3B3A0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28A5E-E1C7-4E8C-A8B1-15EDAD816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6B4C2-AE38-4A87-9E4A-330BDF10F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8A5FF-101D-410C-B957-FE3F14CD6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270AC-7A21-4319-8169-FDF5B7D2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F2E9B-1A2D-494C-BA84-12DA4068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E723-8F26-4C84-A812-81BC7584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A896F-9CBE-4628-BF81-0DC2CD26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1367F-E369-4BA3-9B58-CE955B6A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14DAC-0EC7-4F4B-B066-1E8E6CB7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61FC7-FC4D-4787-B25D-D76E7AE0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30B05-3412-4E82-8ADB-237378C0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B16CB-DB4F-49B4-87E5-E8A192E3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848EB-320C-4DCC-9198-B7EB157C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27EAA-905A-4F46-BFB9-D73277555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190EB-9B3C-4CE6-91A5-5B7E82E2E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127C3-FB18-4023-93E5-E0356E121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5AC7-AC38-449C-86B0-5018543A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6BB97-6490-425E-8A4F-66E4132C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9C8FE-1761-4A9A-9175-896C153D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008DC-7973-421A-AFA3-9576B94F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3F721-23A4-4329-8FE1-626BBA3B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40152-1065-4178-910B-06C23CA6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6DEBF-4308-41F6-AECF-E8836E4E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A7552-353B-442F-B7F3-6B1D4841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3CA3C-000B-45EE-911C-36C7DA84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C0BAA-8D6B-479D-AD5C-6A875DE9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017D0-3D3D-4C00-94D1-BF894F73F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1A2D-54CB-42A8-BB56-3600D46B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EBB94-DAF5-4A56-A9D4-9A72F9814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19C41-F54C-4322-AD63-24CE63EB9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5A570-EC0F-4120-B304-3D922EB9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F8776-5C6C-475F-BB01-96C0D42B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A5CAC-B2A4-4959-8E93-BEEE94BA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B664E-D683-4008-A587-D3BBB29D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976C5-1C50-4ACB-871E-58739938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6D17D-F499-4084-A9B4-928C7989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81D91-1945-48D7-B04D-20D1CB8F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D8CA0-26F7-4EF5-83DD-D33E225B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9544-E3D9-4908-AB86-927C5599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48A1B-0E58-4EA3-9F27-76068AAE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35C67-DDFE-4702-BBB5-7A478CFB4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9D321-2F73-4572-8A99-AD1428837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226C8-4610-4AE2-B832-D9BCEA797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2DDA1-BB34-4D2E-BC32-4AE1886C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827C5-0397-4BB3-B12F-3484B31A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A2DCD-B166-4856-81A2-05517212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D71D0-C27D-4E7D-9467-F12A735D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611A0-B129-44FE-8658-E34CC59F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152EB-8EF5-437C-BB86-7A093241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FA51-EDAF-4165-95FE-8E25E34E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F62AA-5E56-497B-9657-E9C2493F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4B6A9-6387-4ADE-BB62-EF3D4332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A2CAF-E30E-453B-8675-1E4538AA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B22CD-64A5-49F0-A2F6-22049C671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7BC0D-6003-46E4-847F-1030D136C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2235C-F2C9-4C6D-8EC5-93D93D3FD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DB7F2-8B42-41BE-9B76-C96F50AC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61C13-59AB-4376-AFDC-3CDFF63D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99B05-D384-4CF2-A2DD-490736CA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B8A0C-900F-47F1-B7F1-9B850F23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8BEF-EAD7-4D8F-BC46-4C858DEE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8FF9D-51FC-47F9-B022-72D48CBF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24613-8763-4EED-AEE0-9209D619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2508E-E00A-4A47-98D4-96D62822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9C223-F7A3-432D-895C-26EA9263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099B4-FE3C-4970-93EB-5F401CD0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81918-660E-42FF-B229-4CA5941B3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1C045-3C85-4706-A33C-C3BF01A9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966C-0E4F-4C87-8046-1C59D61022EA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8C60-271E-4E9E-B794-E990DD22BEDD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6448-1A28-4ABD-B5C3-E996FFC6855C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E962-1828-4D31-88BB-4C6C82CAD2F5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161C-425F-46D3-9E44-7FAE262DBE57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D293-7843-4CDC-8273-9C287BFC3D9A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027F-FBE0-494A-BF1B-BE51DF45788C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7239-62F3-465F-8240-00EEC3118617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"/>
          <p:cNvSpPr/>
          <p:nvPr/>
        </p:nvSpPr>
        <p:spPr>
          <a:xfrm>
            <a:off x="380880" y="304920"/>
            <a:ext cx="8382240" cy="6646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zation of Livestock Production Systems and the Potential for Enhancing Productivity through Improved Feeding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lemera and Wuchale Districts, Ethiop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iry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Holeta Agricultural Research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2060"/>
                </a:solidFill>
                <a:latin typeface="Bookman Old Style"/>
              </a:rPr>
              <a:t>Problems Identified As more important Using Pair wise Ranking -Wolemr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04560" y="1219320"/>
            <a:ext cx="4041720" cy="5394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refta Tokofa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13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t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 shortage in both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lity and quantit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ck of knowledg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ck of improved bree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th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ck of Management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ck  of Health services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632120" y="1215720"/>
            <a:ext cx="4041720" cy="5337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i Gebya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t  Low milk price/high cost of milk produc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I services and time spending tending anima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ed shortage in both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lity and quantit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t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ck of availability of improved bre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t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ekking of long distance for fetching of  water from watering point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1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Possible solu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40402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Berefta Tokof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47960" y="114264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i gebey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371240"/>
            <a:ext cx="4038480" cy="4800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ting of improved forage crops at backyard, around fence, farm side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ing the herd size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ing the utilization of straws of different food crops 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f AI service to selected best body condition local dairy cows and increasing awareness in improved livestock management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ing farmers with continues training 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648320" y="1371240"/>
            <a:ext cx="4038480" cy="4800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Organizing farmers to transport their milk to terminal market (Addis Ababa)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Providing farmers with a greater understanding of common diseases in the area will improve the health of their animal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80000"/>
              </a:lnSpc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Strengthen the capacity of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farmers to use underground wate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80000"/>
              </a:lnSpc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f AI service to selected best body condition local dairy cows and increasing awareness in improved livestock management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echela-Wert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1640" y="15235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25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Bosoka-J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TextBox 8"/>
          <p:cNvSpPr/>
          <p:nvPr/>
        </p:nvSpPr>
        <p:spPr>
          <a:xfrm>
            <a:off x="0" y="60948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Land holding  -Wuch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2"/>
          <a:stretch/>
        </p:blipFill>
        <p:spPr>
          <a:xfrm>
            <a:off x="0" y="2286000"/>
            <a:ext cx="4343400" cy="32767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" descr=""/>
          <p:cNvPicPr/>
          <p:nvPr/>
        </p:nvPicPr>
        <p:blipFill>
          <a:blip r:embed="rId3"/>
          <a:stretch/>
        </p:blipFill>
        <p:spPr>
          <a:xfrm>
            <a:off x="4419720" y="2286000"/>
            <a:ext cx="4572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echela-Wert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1640" y="15235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25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Bosoka-J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TextBox 8"/>
          <p:cNvSpPr/>
          <p:nvPr/>
        </p:nvSpPr>
        <p:spPr>
          <a:xfrm>
            <a:off x="0" y="457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jor sources of livelihoods, Wuch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2"/>
          <a:stretch/>
        </p:blipFill>
        <p:spPr>
          <a:xfrm>
            <a:off x="-762120" y="1905120"/>
            <a:ext cx="4572000" cy="36576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" descr=""/>
          <p:cNvPicPr/>
          <p:nvPr/>
        </p:nvPicPr>
        <p:blipFill>
          <a:blip r:embed="rId3"/>
          <a:stretch/>
        </p:blipFill>
        <p:spPr>
          <a:xfrm>
            <a:off x="3886200" y="1905120"/>
            <a:ext cx="4952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-360" y="1285560"/>
            <a:ext cx="449748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echela-Wert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TextBox 8"/>
          <p:cNvSpPr/>
          <p:nvPr/>
        </p:nvSpPr>
        <p:spPr>
          <a:xfrm>
            <a:off x="0" y="4572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verage livestock holding (TLU), Wuch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48320" y="1295280"/>
            <a:ext cx="4495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Bosoka-J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9" name="Picture 2" descr=""/>
          <p:cNvPicPr/>
          <p:nvPr/>
        </p:nvPicPr>
        <p:blipFill>
          <a:blip r:embed="rId2"/>
          <a:stretch/>
        </p:blipFill>
        <p:spPr>
          <a:xfrm>
            <a:off x="0" y="2438280"/>
            <a:ext cx="4495680" cy="35816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3" descr=""/>
          <p:cNvPicPr/>
          <p:nvPr/>
        </p:nvPicPr>
        <p:blipFill>
          <a:blip r:embed="rId3"/>
          <a:stretch/>
        </p:blipFill>
        <p:spPr>
          <a:xfrm>
            <a:off x="4648320" y="2438280"/>
            <a:ext cx="44956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285920"/>
            <a:ext cx="4040280" cy="54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echela-Wert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1640" y="1219320"/>
            <a:ext cx="40417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24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Bosoka-J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TextBox 8"/>
          <p:cNvSpPr/>
          <p:nvPr/>
        </p:nvSpPr>
        <p:spPr>
          <a:xfrm>
            <a:off x="1295280" y="304920"/>
            <a:ext cx="6324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eed Resources Contribution - Wuch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4343400" cy="38782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3" descr=""/>
          <p:cNvPicPr/>
          <p:nvPr/>
        </p:nvPicPr>
        <p:blipFill>
          <a:blip r:embed="rId2"/>
          <a:stretch/>
        </p:blipFill>
        <p:spPr>
          <a:xfrm>
            <a:off x="4724280" y="1981080"/>
            <a:ext cx="44197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2060"/>
                </a:solidFill>
                <a:latin typeface="Bookman Old Style"/>
              </a:rPr>
              <a:t>Problems Identified As The more important Using Pair wise Ranking -Wucahle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echela wertu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high cost and poor quality of supplementary fe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nimal health problem and lack of vet servi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Inadequate AI servi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Lack of improved breed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osoka -ja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1  low milk pric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2  High cost and poor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quality  supplementary fe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3  Lack of improved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reeds/AI servi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4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imited animal health services provid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Bookman Old Style"/>
              </a:rPr>
              <a:t>            </a:t>
            </a:r>
            <a:r>
              <a:rPr b="0" lang="en-US" sz="3200" spc="-1" strike="noStrike">
                <a:solidFill>
                  <a:srgbClr val="002060"/>
                </a:solidFill>
                <a:latin typeface="Bookman Old Style"/>
              </a:rPr>
              <a:t>Possible Solu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ela wortu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Improving the feeding value of crop residues through Improved technolog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Increase biomass yield, use of nutritionally and potentially improved forage crops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use of oats hay, and reducing the number of animal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To increase the number of local drug shop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Increase the number of health service providers and enhance education on control of diseases and vaccinations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soka -ja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Organizing farmers to transport their milk to terminal market (Addis Ababa)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nting of improved forage crops at backyard, around fence, farm sid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f AI service to selected best body condition local dairy cows and increasing awareness in improved livestock management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ncrease the number of health service providers and enhance education on control of diseases and vaccinations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Lessons Learned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ing  More Key informants might give more representative resul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This tool is Important and save time to design  intervention strategies aiming to optimize feed utilization and animal productio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Th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ST Tool(Excel Software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)and stucture questioner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s further improvemen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was learning process for the tea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Bookman Old Style"/>
              </a:rPr>
              <a:t>The way forward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troduce simple feed processing technologies to improve the quality of the existing fe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troduce fodder crops to improve the quantity and quality of fe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oviding adequate training to farmers in Techniques of disease prevention, feed management record keep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trengthen the capacity of Cooperatives, unions, AI and health services at villag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trengthen the linkage between Research,extensoin and farmer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inking with sustainable  formal market acce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Back Ground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Gill Sans MT"/>
              </a:rPr>
              <a:t>The FEAST (Feed Assessment Tool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t is a systematic Method to rapidly assess the livestock production system and feed resource base in the smallholder contex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EAST Helps in the design of intervention strategies aiming to optimize feed utilization and animal produc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tool was tested in two selected woredas (Wolmera and Wuchale) in the central highlands of Ethiopia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Bookman Old Style"/>
              </a:rPr>
              <a:t>Objective 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200000"/>
              </a:lnSpc>
              <a:buClr>
                <a:srgbClr val="00b050"/>
              </a:buClr>
              <a:buSzPct val="95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est the application of FEAST for rapid assessment and characterization of livestock production systems and the feed resource base in the two woredas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Bookman Old Style"/>
              </a:rPr>
              <a:t>Methodology 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0" y="1219320"/>
            <a:ext cx="9036000" cy="4937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olmer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uchale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Berfeta                  Robi                                                                                                      Wechela                                      Bosoka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Tokofa                  Gebya                                                                                                     Wertu                                            Jate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ill Sans MT"/>
              </a:rPr>
              <a:t>Selection Criteria: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buClr>
                <a:srgbClr val="727ca3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Dairy production system (one village based on local cattle and the 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buClr>
                <a:srgbClr val="727ca3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other village market oriented using crossbred cattle)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buClr>
                <a:srgbClr val="727ca3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12 – 14 farmers (2-5 women) selected (wealth status, gender,  age  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buClr>
                <a:srgbClr val="727ca3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groups)  from each village. 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buClr>
                <a:srgbClr val="727ca3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Responses collected during the key informant interview to calculate  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buClr>
                <a:srgbClr val="727ca3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approximate average values Were analyzed using Microsoft Excel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Oval 3"/>
          <p:cNvSpPr/>
          <p:nvPr/>
        </p:nvSpPr>
        <p:spPr>
          <a:xfrm>
            <a:off x="3124080" y="2590920"/>
            <a:ext cx="2087640" cy="1089000"/>
          </a:xfrm>
          <a:prstGeom prst="ellipse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elected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Straight Arrow Connector 5"/>
          <p:cNvCxnSpPr/>
          <p:nvPr/>
        </p:nvCxnSpPr>
        <p:spPr>
          <a:xfrm flipH="1">
            <a:off x="304200" y="1523520"/>
            <a:ext cx="864360" cy="129924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386" name="Straight Arrow Connector 6"/>
          <p:cNvCxnSpPr/>
          <p:nvPr/>
        </p:nvCxnSpPr>
        <p:spPr>
          <a:xfrm>
            <a:off x="1218240" y="1523880"/>
            <a:ext cx="686520" cy="137232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387" name="Straight Arrow Connector 8"/>
          <p:cNvCxnSpPr/>
          <p:nvPr/>
        </p:nvCxnSpPr>
        <p:spPr>
          <a:xfrm flipH="1">
            <a:off x="6552360" y="1523520"/>
            <a:ext cx="793080" cy="129636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388" name="Straight Arrow Connector 9"/>
          <p:cNvCxnSpPr/>
          <p:nvPr/>
        </p:nvCxnSpPr>
        <p:spPr>
          <a:xfrm>
            <a:off x="7315200" y="1523520"/>
            <a:ext cx="1008720" cy="129636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0000"/>
                </a:solidFill>
                <a:latin typeface="Gill Sans MT"/>
              </a:rPr>
              <a:t>Major Findings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-360" y="1285920"/>
            <a:ext cx="4497480" cy="923760"/>
          </a:xfrm>
          <a:prstGeom prst="rect">
            <a:avLst/>
          </a:prstGeom>
          <a:solidFill>
            <a:srgbClr val="d2da7a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ill Sans MT"/>
              </a:rPr>
              <a:t>Berfeta Tokkoff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0" y="1218960"/>
            <a:ext cx="4572000" cy="990360"/>
          </a:xfrm>
          <a:prstGeom prst="rect">
            <a:avLst/>
          </a:prstGeom>
          <a:solidFill>
            <a:srgbClr val="d2da7a"/>
          </a:solidFill>
          <a:ln w="0">
            <a:noFill/>
          </a:ln>
        </p:spPr>
        <p:txBody>
          <a:bodyPr anchor="b">
            <a:normAutofit fontScale="38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ill Sans MT"/>
              </a:rPr>
              <a:t>Robe-Geby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2"/>
          <a:stretch/>
        </p:blipFill>
        <p:spPr>
          <a:xfrm>
            <a:off x="0" y="2209680"/>
            <a:ext cx="4495680" cy="3710160"/>
          </a:xfrm>
          <a:prstGeom prst="rect">
            <a:avLst/>
          </a:prstGeom>
          <a:ln w="0">
            <a:noFill/>
          </a:ln>
        </p:spPr>
      </p:pic>
      <p:sp>
        <p:nvSpPr>
          <p:cNvPr id="395" name="TextBox 8"/>
          <p:cNvSpPr/>
          <p:nvPr/>
        </p:nvSpPr>
        <p:spPr>
          <a:xfrm>
            <a:off x="0" y="609480"/>
            <a:ext cx="9144000" cy="64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Land holding  -Wolm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3" descr=""/>
          <p:cNvPicPr/>
          <p:nvPr/>
        </p:nvPicPr>
        <p:blipFill>
          <a:blip r:embed="rId3"/>
          <a:stretch/>
        </p:blipFill>
        <p:spPr>
          <a:xfrm>
            <a:off x="4648320" y="2209680"/>
            <a:ext cx="4495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4648320" cy="1067040"/>
          </a:xfrm>
          <a:prstGeom prst="rect">
            <a:avLst/>
          </a:prstGeom>
          <a:solidFill>
            <a:srgbClr val="ecf1f5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ill Sans MT"/>
              </a:rPr>
              <a:t>Berfeta Tokkoff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00240" y="1066680"/>
            <a:ext cx="4343400" cy="1067040"/>
          </a:xfrm>
          <a:prstGeom prst="rect">
            <a:avLst/>
          </a:prstGeom>
          <a:solidFill>
            <a:srgbClr val="ecf1f5"/>
          </a:solidFill>
          <a:ln w="0">
            <a:noFill/>
          </a:ln>
        </p:spPr>
        <p:txBody>
          <a:bodyPr anchor="b">
            <a:normAutofit fontScale="31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ill Sans MT"/>
              </a:rPr>
              <a:t>Robe-Geby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TextBox 8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solidFill>
            <a:srgbClr val="ecf1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Major sources of livelihoods - Wolm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2"/>
          <a:stretch/>
        </p:blipFill>
        <p:spPr>
          <a:xfrm>
            <a:off x="4800600" y="2133720"/>
            <a:ext cx="4343400" cy="36576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"/>
          <p:cNvPicPr/>
          <p:nvPr/>
        </p:nvPicPr>
        <p:blipFill>
          <a:blip r:embed="rId3"/>
          <a:stretch/>
        </p:blipFill>
        <p:spPr>
          <a:xfrm>
            <a:off x="0" y="2133720"/>
            <a:ext cx="4648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0" y="1285560"/>
            <a:ext cx="4191120" cy="847800"/>
          </a:xfrm>
          <a:prstGeom prst="rect">
            <a:avLst/>
          </a:prstGeom>
          <a:solidFill>
            <a:srgbClr val="464653"/>
          </a:solidFill>
          <a:ln w="0">
            <a:noFill/>
          </a:ln>
        </p:spPr>
        <p:txBody>
          <a:bodyPr anchor="b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Berfeta Tokkoff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266720" y="1294920"/>
            <a:ext cx="4876920" cy="838440"/>
          </a:xfrm>
          <a:prstGeom prst="rect">
            <a:avLst/>
          </a:prstGeom>
          <a:solidFill>
            <a:srgbClr val="464653"/>
          </a:solidFill>
          <a:ln w="0">
            <a:noFill/>
          </a:ln>
        </p:spPr>
        <p:txBody>
          <a:bodyPr anchor="b">
            <a:normAutofit fontScale="16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Gill Sans MT"/>
              </a:rPr>
              <a:t>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Robe-Geby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TextBox 8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solidFill>
            <a:srgbClr val="4646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Average livestock holding (TLU) - Wolm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2"/>
          <a:stretch/>
        </p:blipFill>
        <p:spPr>
          <a:xfrm>
            <a:off x="0" y="2133720"/>
            <a:ext cx="4191120" cy="35496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"/>
          <p:cNvPicPr/>
          <p:nvPr/>
        </p:nvPicPr>
        <p:blipFill>
          <a:blip r:embed="rId3"/>
          <a:stretch/>
        </p:blipFill>
        <p:spPr>
          <a:xfrm>
            <a:off x="4191120" y="2133720"/>
            <a:ext cx="49528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b8cd"/>
                </a:solidFill>
                <a:latin typeface="Gill Sans MT"/>
              </a:rPr>
              <a:t>Berfeta Tokkoff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1640" y="1218960"/>
            <a:ext cx="4041720" cy="685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b">
            <a:normAutofit fontScale="17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fb8cd"/>
                </a:solidFill>
                <a:latin typeface="Gill Sans MT"/>
              </a:rPr>
              <a:t>                 </a:t>
            </a:r>
            <a:r>
              <a:rPr b="1" lang="en-US" sz="1900" spc="-1" strike="noStrike">
                <a:solidFill>
                  <a:srgbClr val="9fb8cd"/>
                </a:solidFill>
                <a:latin typeface="Gill Sans MT"/>
              </a:rPr>
              <a:t>Robe Gebya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TextBox 8"/>
          <p:cNvSpPr/>
          <p:nvPr/>
        </p:nvSpPr>
        <p:spPr>
          <a:xfrm>
            <a:off x="457200" y="3049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eed resources Contribution - Wolm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2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4572000" cy="35067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41907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6T14:37:57Z</dcterms:created>
  <dc:creator>Wamatu, Jane</dc:creator>
  <dc:description/>
  <dc:language>en-US</dc:language>
  <cp:lastModifiedBy>PBallantyne</cp:lastModifiedBy>
  <dcterms:modified xsi:type="dcterms:W3CDTF">2012-06-04T17:55:40Z</dcterms:modified>
  <cp:revision>190</cp:revision>
  <dc:subject/>
  <dc:title>FEAST</dc:title>
</cp:coreProperties>
</file>